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media/image8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E97CF-4066-4DFD-A61B-9569DDA56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333FA-BCEF-4590-8CD9-E23930B5A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946A35-9C89-4549-A940-1C6161F8D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A68DED-BA70-443C-BA63-C17119A9A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B3A80D-8FB5-44A3-9BF2-C63CA75A4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19EB4F-B6F0-4BEB-9DBB-4BD4E09B4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FA0352-CA2F-456D-9724-67143F7B0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79EEF6-8DEB-4429-8D0E-434A3D0CD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8D341B-D850-47B9-B564-9B45B7B7A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8AB5A7-9524-477D-8448-ECF2DF273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85F273-17C5-4D84-8F6D-C1AFF3AB5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BD4C85-8C7E-4414-AD9C-438E527BA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C1544-07CE-41AD-956F-74CEDDC20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EA11A9-74D0-49A2-A2AA-E7166D3D9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D52DDC-A9FA-4B47-A898-1AE6FA698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50E1C8-8EB9-4D28-8484-0CB9A57A4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2303AA-6991-425D-AF19-B224E21FA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8447E8-BB52-415D-A989-640F4F214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F4E665-739C-4C21-A24D-CAA41E238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DF33B5-3FF8-4781-9929-9758226D8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568FB8-AE20-495B-8C76-3E1308D0C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78E922-24FC-4A7E-867E-126E99A09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5C9673-2C36-48FF-A2B8-7A48537BC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DAD2F-BEFB-4EB0-BFB8-F3C5D22F8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697569-5B78-4C1D-8712-C5FFE7138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B51FDD-D68E-49E8-9D10-46127D596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867626-AE45-4916-A79F-C3A73E429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89D21F-853F-4EB0-9EDD-35BFD00C3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DDB42F-8844-4037-B5AA-359BEA2D2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31E720-F0E9-4637-BA32-EBF76ECAD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535F28-48F1-4A44-9FB5-0FCE86BF8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E2E2A8-BF8C-4E2E-9741-C47ED3128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DF0C6F-D37E-408A-9DC2-DE437FA81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368235-BA3A-44FF-A215-DEC30EA1A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30C4C-C70A-48F9-AC6E-A4CE51A04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D2F488-8917-4925-83D5-1A4E274C8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62A348-E521-4BF8-85F7-C98213798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0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0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4D0C25-1922-43D5-ACBA-77C52425E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5145F5-B7A2-4B82-86D5-11D6C7B4F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47FEBD-7395-4863-B9E1-8277A83F0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DA71FA-7B11-4B38-B916-57F068B70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83B848-AC17-45FA-BB4C-A889BA490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4004F5-5C51-4E70-890B-1D0734B38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C7227E-25CD-4CC8-925D-4FF646546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F7C717-9E8D-4BDD-87B6-B1EAE1F77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AFE79-C3B5-409B-86F2-0170D6237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77534E-7CCD-4B96-A0FA-FB4965BF8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BD4111-F050-4ECE-A292-FA71AF1BF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6CD9C4-57A8-4879-8291-953893269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7E2EF8-1388-4FE4-B623-B282EC54B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99A1FC-6166-47D9-A05D-51894D9D6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43B71-AE6F-435E-AED7-93293E42E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911CC-C510-4BAD-A1DA-93E314E5C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30861-D6AD-4BAA-B4F4-4AE1C0C08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DE07A-5DDF-49D4-9B0C-59E10028E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3889C-2647-454E-8295-1EA620961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9382C-3113-473A-B4F1-FF6DBC625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58CAE-B61F-47C4-ADE1-F11BFE3F1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1E256-FE0D-4C22-B3FF-B025773A8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8F5B3-3818-456B-A551-E5AFD4778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7C7AA-5D7F-4AB2-A096-17AFD47EB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5BC41-305E-4FD4-A9A1-86A570CBA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1E3E377-D021-44F2-9474-497CEF989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27E798A-C71E-4D72-AB7E-C3AEA156E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36CB00F-3B32-41B2-A920-8D2172951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CA951A2-277F-471C-9BFF-CBC107AB7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246A99C-D365-47C7-99D0-4BDE9EF13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84B25-2758-4E92-AAB3-2A26CE1AD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61929BF-873B-4B17-8E07-510BB8ED0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A59EC26-EFB2-4030-95F9-AFB0D7500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CEA2073-3F0E-40A0-957C-252A550C1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9FBA962-14C6-4882-98E0-800E352DF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84C8884-837B-4016-ACEB-36C792407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A5EFC21-8BB7-4776-A18D-026855256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2391612-F9DF-449F-8256-94FD7F288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E7176E-3DC0-48D8-8211-CB0927883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2F82F1-8C06-4C3E-B52E-A5F750123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8FFDE8-8472-494C-8B25-0C98E636B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51D10-25AD-4FE1-99AE-56C8B7D4C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F83B86-E5F3-482F-9784-44292F03E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FA7A17-14B3-482C-9521-229466732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B69559-0B45-43DF-B861-6311DECD7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209A4E-6F55-40F1-ACFF-25C8B50B4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820AFB-B010-4539-83B6-FA209ECDE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869A77-93FD-4A56-A0DB-7F978C9B5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613D0B-962E-4374-B519-C02F2953D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73E289-EA2E-4C4E-8EC4-D573DFDA4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7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7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7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5371ED-FE55-4E95-8BEE-21BB4AA04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C83D37-2604-44D7-8AF7-5D58A683D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1F224-627D-45FC-8F5B-72EC58B6B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B73C5E-4FBD-4C7E-B4C9-011D1A27D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A84C66-68C3-4057-A520-3F3233985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1C9D2C-EC35-4043-928C-7985BAEF2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C72609-27E6-4441-9F3C-B169627A2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9FAE2F-9121-4651-9D0C-DD5453CF9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29B94F-63E9-4B18-B132-43BFECB16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0E7146-A65B-40A6-A858-9F6B5471A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EBFFEF-B83B-4656-A065-591DCE49A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38288B-CBD8-4F45-84B1-823CA466D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1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CE7259-A0CB-4DCB-A255-95BE1DB53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2FF42-A519-4747-B696-5BF35F043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1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1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1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17A9B3-D022-4705-890B-1418E4243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C9F9C7-B7BC-4381-B6DC-1F8C6D890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598B88-79A8-46E2-B9D3-F2315C546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20E8FA-95DC-435C-B674-B5F6556B9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69895D-8AD7-4E80-81F8-5319A5955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D22387-0B0E-4C6A-92B7-31EA2362E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074546-2F16-4705-A56E-871EB24DF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36B790-D268-46A3-B14F-2BCFFDB1C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AA7A06-2720-49E0-BFCC-272F258C9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785FBE-7F24-4BA9-9148-6EBC5D9D5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08BC1-F6FA-4563-96C6-335BBE05E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E9F590-992D-4BFF-A12E-3602F3F9C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47E6FB-6A8A-40CA-8606-F4B070836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D89F45-C78D-43A3-BF81-DE2B0BC04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CACE32-7DEC-4217-8A2C-4646BC51E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A9F933-7558-480D-9400-6FE1480CD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C335A6-991D-42A7-8A7A-7006B52F6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1080A8-EF06-4785-BA9E-C7808C1CA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8EEAB7-FBC8-4D90-96CA-FF33E3F1F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628CDF-F089-42F4-B129-A9129337B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13BB02-84B0-487B-9B0F-12EE5CE2B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2EFDB-85A4-4745-9A49-E47B36296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094C87-9298-46CA-8201-854B4FE41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37E9C7-52FF-498F-BB97-E0E1B2129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45C8CE-78E6-4753-9028-C4870E681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9A2CC4-259B-4E64-95D6-A6826D37E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845160-6462-4817-978D-FF226F187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881D0E7-D0DD-49E7-BBC1-98027BB5E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A225E9B-66CD-4BFA-933A-B2E8D9E69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DC2A067-F5E2-42D0-98F2-14FCD6130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1EF0B94-FBF2-420D-A000-7EE9DE68F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DB7134C-D73B-411F-A1D9-7E0EF2434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DB275-E656-45E1-A352-1A403DC2D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F9C01B4-9DA2-496B-ACCC-8A827C12D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1955CF4-8728-4A37-B192-1BF28D4C0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5A11C52-5C24-4956-9EEC-1A8AF971D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6363D34-D2F7-4724-B94C-0E33D7A34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E2AAAB4-EAD7-4586-A9C1-484F749A4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D0C263F-7CA3-43BE-9C64-ABCBBF6B2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5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790D950-B1A1-4CE1-8042-D232DDDBA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246B6C-0F9E-4454-AF47-B84A101F6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B629C3-C7A1-4666-8A4B-4D1923C93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56C24D-0691-4F3D-B211-8863934FD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BD342-BCAE-466A-B0DF-C90915A7F311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8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899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0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1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2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3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4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05" name="PlaceHolder 1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24E73-0116-4B12-8DE4-15BD7E239E8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5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946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813FE-CE3B-4F6C-9CC0-185262F52DC8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2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003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PlaceHolder 4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A219F-6E66-4B2A-BA1A-DABD1BAC26E8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A8E65-8ADF-4276-89A0-4446D203D1F2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6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6" name="PlaceHolder 1"/>
          <p:cNvSpPr>
            <a:spLocks noGrp="1"/>
          </p:cNvSpPr>
          <p:nvPr>
            <p:ph type="sldNum" idx="7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7581C-F90E-488C-9EFF-BE3DEA5754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dt" idx="8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 type="ftr" idx="9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41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F369F-8531-46D3-8E15-128B7CDD8D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3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674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5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676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 type="dt" idx="13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 type="ftr" idx="14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PlaceHolder 5"/>
          <p:cNvSpPr>
            <a:spLocks noGrp="1"/>
          </p:cNvSpPr>
          <p:nvPr>
            <p:ph type="sldNum" idx="15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CC098-9AE0-4460-80FE-48526A93DAF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0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721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22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723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26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727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dt" idx="16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 type="ftr" idx="17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 type="sldNum" idx="18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7757C-24BD-42A2-9C4A-674849F4B08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2A035-57E3-4B8B-B649-3D6D35A2B2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1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 type="ftr" idx="2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PlaceHolder 3"/>
          <p:cNvSpPr>
            <a:spLocks noGrp="1"/>
          </p:cNvSpPr>
          <p:nvPr>
            <p:ph type="sldNum" idx="2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BE484-101D-421A-9F60-BABEBD9BDD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PlaceHolder 4"/>
          <p:cNvSpPr>
            <a:spLocks noGrp="1"/>
          </p:cNvSpPr>
          <p:nvPr>
            <p:ph type="dt" idx="2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1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852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3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4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5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6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7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6146A-94E8-49CC-88AF-E078029EDAE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7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2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900000" y="691920"/>
            <a:ext cx="777240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4000" spc="-1" strike="noStrike">
                <a:solidFill>
                  <a:srgbClr val="ffff99"/>
                </a:solidFill>
                <a:latin typeface="Arial"/>
              </a:rPr>
              <a:t>Имя существительное</a:t>
            </a:r>
            <a:br>
              <a:rPr sz="4000"/>
            </a:br>
            <a:br>
              <a:rPr sz="4000"/>
            </a:br>
            <a:r>
              <a:rPr b="0" lang="ru-RU" sz="3200" spc="-1" strike="noStrike">
                <a:solidFill>
                  <a:srgbClr val="ffff99"/>
                </a:solidFill>
                <a:latin typeface="Arial"/>
              </a:rPr>
              <a:t>5класс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ffff99"/>
                </a:solidFill>
                <a:latin typeface="Arial"/>
              </a:rPr>
              <a:t>Телицина Ирина Николаевна</a:t>
            </a:r>
            <a:br>
              <a:rPr sz="3200"/>
            </a:br>
            <a:r>
              <a:rPr b="0" lang="ru-RU" sz="3200" spc="-1" strike="noStrike">
                <a:solidFill>
                  <a:srgbClr val="ffff99"/>
                </a:solidFill>
                <a:latin typeface="Arial"/>
              </a:rPr>
              <a:t>учитель русского языка, </a:t>
            </a:r>
            <a:br>
              <a:rPr sz="3200"/>
            </a:br>
            <a:r>
              <a:rPr b="0" lang="ru-RU" sz="3200" spc="-1" strike="noStrike">
                <a:solidFill>
                  <a:srgbClr val="ffff99"/>
                </a:solidFill>
                <a:latin typeface="Arial"/>
              </a:rPr>
              <a:t>Спасский район,с.Три Озера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dfdef6"/>
                </a:solidFill>
                <a:latin typeface="Arial"/>
              </a:rPr>
              <a:t>Морфологические признаки: </a:t>
            </a:r>
            <a:endParaRPr b="0" lang="en-US" sz="32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2700000" y="2276280"/>
            <a:ext cx="5986440" cy="30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Изменение  по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числам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родам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адежам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10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0" fill="hold"/>
                                        <p:tgtEl>
                                          <p:spTgt spid="10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0" fill="hold"/>
                                        <p:tgtEl>
                                          <p:spTgt spid="10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0" fill="hold"/>
                                        <p:tgtEl>
                                          <p:spTgt spid="10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10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10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10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10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10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10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Склонение  имен </a:t>
            </a:r>
            <a:br>
              <a:rPr sz="3800"/>
            </a:b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существительных: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перво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Род.пад.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у дороги   (у земли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Дат.пад.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о дороге (по земле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Предл.пад.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о дороге (о земле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олько 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в безударном окончан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вучат неясн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 втором и третьем склонениях  тольк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дин вариант написания –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(2 скл.)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                    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и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3 скл.).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0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0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 u="sng">
                <a:solidFill>
                  <a:srgbClr val="ffffff"/>
                </a:solidFill>
                <a:uFillTx/>
                <a:latin typeface="Tahoma"/>
              </a:rPr>
              <a:t>Имена существительные</a:t>
            </a:r>
            <a:br>
              <a:rPr sz="4000"/>
            </a:br>
            <a:r>
              <a:rPr b="0" i="1" lang="en-US" sz="4000" spc="-1" strike="noStrike" u="sng">
                <a:solidFill>
                  <a:srgbClr val="ffffff"/>
                </a:solidFill>
                <a:uFillTx/>
                <a:latin typeface="Tahoma"/>
              </a:rPr>
              <a:t>одушевленные и неодушевленные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457200" y="2126880"/>
            <a:ext cx="8229600" cy="36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Одушевленные: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(КТО  ЭТО?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волк, лисица, заяц, тигр, лес, поляна, дом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Неодушевленные: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(ЧТО  ЭТО?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очаровательные ночи, струится свет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улыбающееся солнце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2" dur="500"/>
                                        <p:tgtEl>
                                          <p:spTgt spid="10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0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0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10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0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0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10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0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0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10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0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0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10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0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0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10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7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Имена собственные и 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                       нарицательные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2997360"/>
            <a:ext cx="8229600" cy="33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Город, деревня, океан, озеро, река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н а р и ц а т е л ь н ы 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Имена людей, названия рек, городо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улиц пишутся с заглавной буквы  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являются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собственны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10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9" dur="500"/>
                                        <p:tgtEl>
                                          <p:spTgt spid="10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4" dur="500"/>
                                        <p:tgtEl>
                                          <p:spTgt spid="10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9" dur="500"/>
                                        <p:tgtEl>
                                          <p:spTgt spid="10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4" dur="500"/>
                                        <p:tgtEl>
                                          <p:spTgt spid="10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9" dur="500"/>
                                        <p:tgtEl>
                                          <p:spTgt spid="10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457200" y="764640"/>
            <a:ext cx="83628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   </a:t>
            </a: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Род  имен</a:t>
            </a:r>
            <a:br>
              <a:rPr sz="4000"/>
            </a:b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существительных</a:t>
            </a:r>
            <a:br>
              <a:rPr sz="4000"/>
            </a:b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            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/>
          </p:nvPr>
        </p:nvSpPr>
        <p:spPr>
          <a:xfrm>
            <a:off x="457200" y="2842920"/>
            <a:ext cx="8229600" cy="32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Женский :       весна, земля…(- а, я -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Мужской :    дуб, брат, цвет, предмет…(- без окон.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Средний :    кино, пальто, окно….( - о -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0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0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10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0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0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0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10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1" dur="80"/>
                                        <p:tgtEl>
                                          <p:spTgt spid="10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7,-76,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2" dur="80"/>
                                        <p:tgtEl>
                                          <p:spTgt spid="10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7,-76,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3" dur="80"/>
                                        <p:tgtEl>
                                          <p:spTgt spid="10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8" dur="80"/>
                                        <p:tgtEl>
                                          <p:spTgt spid="10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7,-76,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9" dur="80"/>
                                        <p:tgtEl>
                                          <p:spTgt spid="10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7,-76,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0" dur="80"/>
                                        <p:tgtEl>
                                          <p:spTgt spid="10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5" dur="80"/>
                                        <p:tgtEl>
                                          <p:spTgt spid="10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7,-76,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6" dur="80"/>
                                        <p:tgtEl>
                                          <p:spTgt spid="10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7,-76,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7" dur="80"/>
                                        <p:tgtEl>
                                          <p:spTgt spid="10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3T07:09:27Z</dcterms:created>
  <dc:creator>A0001</dc:creator>
  <dc:description/>
  <dc:language>en-US</dc:language>
  <cp:lastModifiedBy>A0001</cp:lastModifiedBy>
  <dcterms:modified xsi:type="dcterms:W3CDTF">2002-12-05T12:50:34Z</dcterms:modified>
  <cp:revision>12</cp:revision>
  <dc:subject/>
  <dc:title>  Имя существительное 5класс  Телицина Ирина Николаевна,учитель русского языка,Спасский район,с.Три Озера</dc:title>
</cp:coreProperties>
</file>